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8CB-0CF0-4927-A014-EB7CD3A6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3CC-685A-42C3-8802-9BF1BF0D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DE0D2-C1F4-4A73-98A5-ABBC921E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6D904-C0CD-49F2-866B-7D24D732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F5303-47DE-4901-B05C-3D014728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075D3-24CC-49FA-94BA-32BFE6D2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88060-D4E9-48AC-9A46-5C0CB143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DEFD1-F324-4D41-A39B-429E27C6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D8708-6173-4E43-97C1-77A93AC0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937A4-8BA0-4D3F-B743-E9342CD5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C443D-B388-49B6-8E00-C491F262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AE426-B41E-4DB3-8006-C87240A7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716-F858-4FB2-BCBA-46EDB939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DA5EB-3F22-469A-9BF3-EC747409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A90DA-66B5-4A14-B0FA-1F585F0C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50F9C-19C4-48EB-AF28-AF2A89C5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65918-EB8B-4C93-A860-BB6B331D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0EBE1-D1D9-43E5-B0B6-5DDC0962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F9A9C-F5F8-420E-9DCC-384A8937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78FD1-653B-47F7-A12A-8899660A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89F49-428C-4DF0-A43A-02A22C96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0CDB8-C954-4767-A671-4C0687E5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A5064-2593-4DF6-9A27-56A5A1A3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C63-BCD3-42B3-A61F-B8A407C7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355A3-B258-4573-AA15-C447D7CB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28C5B-30A3-41C6-A446-F941C600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08DAE-17E8-438D-BA30-6D9D7166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738FA-5ABA-4993-B648-1244D1F8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B08E9-8432-4663-9D96-58F0A236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8098C-C2C7-4B92-AFDC-7027E948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4A4A2-B8C4-49B4-9A35-C09C8AEF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1E86D-2150-4EF9-A376-217B2CDC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C7804-649C-4F0C-B92C-3D4FCA8B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91187-ED58-4107-ACCB-962E261C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5BA1-9F81-4CD7-9AB0-BE42FE32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0F740-AF43-425E-9E2B-BCBD354B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C1796-AD19-4389-9FB9-407DA8ED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1D034-A7D9-4716-BE5B-E7F029B5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34CCC-2E89-433F-AD23-A35D684B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4A86E-047D-456C-80AB-97E9EA47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96027-4716-4FCE-842D-D2DC0B13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48737-9CCC-4EAD-87C6-39F9C26E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F8B93-B837-4A6C-BB95-189582A7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3272A-012C-412B-A7AF-1134D37C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B24A0-39A4-4B67-B3A9-741CBDEC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C424-05B6-4146-9ECE-675935E5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59788-B2A8-44ED-B186-6BE8DC1A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85EB4-FE21-42E5-9A19-DB875363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94E3E-4EEA-4301-AAB5-B21C5735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80F59-7ECC-4107-98EB-9FB5AF50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EDF35-BAAE-48EF-B266-1DD59A65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69970-58B7-41FF-9EDA-BA6BFA7B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D1DF5-02A4-4335-B91D-051A0EAE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0146F-84B7-4E0D-A3FA-2F9FC636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69C2F-CE55-49B0-8E98-341FDC5D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6B3D0-B68B-4B26-8B5A-E7BD51DA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DE84-29AD-4843-8047-E469450D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B313F-9CA0-4313-9330-B7C2B10F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93507-9A1F-43BA-ACB3-A80D0446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B0CE3-CF5C-4344-84D4-AEF60D74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CE550-C452-4853-8BBA-EAF5D33F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A096F-96B4-4DD5-814E-D6F05A24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F7F3E-8128-4EC1-9900-D1E4E306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1E5F9-81A7-4286-8A78-1063F8EF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4A9527-969E-4F36-9495-18CE641E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44973-B227-4F92-9252-B8401CD9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0EC31-DDDF-4B7E-8AAF-984C1700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A59F-9150-45A3-B9ED-39C552FD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74E76-FA02-45DF-AD0A-62BBA401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F3A34-A6CF-4752-8ABC-56EC7031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8E4E4-8343-4C89-8396-2087DE80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266FE-F06F-4257-A073-64291755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98FC1-12B6-4EBD-8B4E-A83F0A06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17820-9373-4AC4-96C9-9D514E30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AAEE1-E9EF-43DB-A93F-2D263015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EBEE4-24EA-4436-B4E2-3396F816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A5F16-AA8D-4B85-AE4C-A65D7E2E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BED8B-706A-4FE9-86D3-2CA364DF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EB03-7455-4B43-B118-C4E0B164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19FE35-5FBE-481B-B8F6-9A934034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4D08C6-7456-4D4E-85E7-601A2A23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8D628E-9068-47A1-A56B-861147F2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240E50-291D-49D4-94A9-CAA64B36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9521A-3FEF-4231-91DA-80EB9A77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FC0AB-DE2F-4404-99FE-F19B4054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6390F-DF62-4D45-9E8C-1200483A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A82D70-09EA-4F7A-8A73-F57B4DE8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2BB56-C85A-463A-B9E7-ED010F23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150529-C217-4BCC-AD6F-BA76C49B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9CE2-AB12-4906-82E7-4D535F31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B954AE-05BD-4700-BEAB-ED16DBB1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07A525-5EEF-493A-85AD-039B7192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9FBD35-5527-4E20-8D09-767BAAF5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7FD9E4-08C2-454B-98A1-8E259322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3D075E-B86B-45A7-BA1F-7177971E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7B5C5-9195-4992-ABAC-F59508D9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7E162-0F29-4AC5-8741-0CFDB274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05CD74-7B9C-4FA9-8B89-0235C882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2C02E-1608-4565-9FA4-6F21399B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7B966B-2A34-4E25-816C-EAE03660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AB48-FDD4-48D2-8A93-2F53E839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B844B-ADB0-4021-8224-F45E77C1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D9783-D4BE-4217-BCE6-517F806D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602B93-CAE3-40C0-91CB-003C2553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E3DC6-6193-4D17-B166-75F85B0A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D0DE5A-8367-49D6-A450-BFCBAB01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FF38AD-5513-406B-B95E-3085647D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CBB576-F1DB-482C-92E4-A430ECFB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590C05-8872-42B6-951E-4C79B42E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BD80FE-CCAC-47B1-A29C-6310A059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EEF7B-AD5E-4280-9039-C0755A47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C5A-6C0B-46B2-8126-8B6F3417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6B26-EC31-44C4-AD62-7D27CF6B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7827DE-2DED-419D-A953-F8E73EBF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7EE40D-AFBA-4C55-BEF6-6C025AEE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1CB211-4F90-4E81-88B2-14E1A850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561EC2-C463-41E4-87A7-5E16424E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442F4-B407-40ED-AA50-A4650BD0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837FDB-3E8D-4F6B-8258-8D799EF7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F2391A-7B2C-456D-A0C4-491A448A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63FE6E-7691-4B27-8AA5-2B5A8F1E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36745-C180-4D05-AF11-22661437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D1FE92-9A55-4307-A122-0130AAAA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8B26-C778-409B-9E58-330CEC98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0348D7-90AD-42C3-8E88-8C66E8BF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7DAD64-20B1-41DA-99FB-7E6AE5AC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EDE25-77E6-4E01-8591-2979092D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55C916-2304-4978-8348-68DFC62C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AA68E-96D0-4F0A-A2D4-070B1276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A9EF9C-2235-43C7-84CA-EE8EC488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7E79CF-6135-4536-8D21-0DEF08DD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82878C-72E5-475D-9A9F-2B36A4BF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91C09-C437-4D4B-BDA7-58AEA6E9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D1B485-1A72-40B5-91AA-0B5398E8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AD7F-1F10-446F-889B-059B246D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47AE87-DFB8-4929-887E-C105D7EB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30C530-3F84-4677-8241-6C16E825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026AEF-EF28-4CD4-BB0C-5DB0F238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42E5FC-6D37-4503-B16D-9BE7C00A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09C936-7DD1-4F86-B76E-C5598D2E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C4F385-2E22-49E4-BDED-0BD065A4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96336C-0A3A-4215-8B33-08CC473B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24D759-0DE0-44E8-BBF8-BBD9AD45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9D1F5C-1C4D-4CF9-B77D-672B7080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374E71-D2FB-49D2-A8B9-767268E5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E905-A958-4232-B92A-C2A864CE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40B147-FC78-4561-A228-CE75FD13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77D6FD-BBD8-4BE8-9643-9383008B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37ADF6-AD04-47F0-A602-734BC5F9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12ECF0-24DB-4B52-AACA-EF9354EA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A3C3E9-2A2F-4569-A919-DF100F3F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82F7EB-51F5-4C8A-A29E-99539B97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A20E2A-2DFA-43C3-9636-8DA13E7D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70C03F-4CDA-48CD-8FCA-8E30714B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21C922-6B09-4DA4-AA43-5131B319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35585D-D07C-4703-AA19-22AE7DB1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BB99-B396-4D37-8BA0-80AFD8C3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207002-A6A6-4808-A9DF-92F50791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02190E-5449-494F-96D0-93B7B4B3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F944EE-C915-406A-B502-CBD2655B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C729E5-0CB5-44E6-9462-23E74392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96654B-76C4-4385-B2F3-0E0ECF48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C410E3-9F7A-4A51-8639-6C9C7FE0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DC5F1E-775E-442C-8AA0-1C8A4265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AC12E6-0825-489F-AD45-5FDD3532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5BE8A8-44AA-413D-B3C1-61A9EBC1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030456-BD05-44AB-9438-26F781AC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364BF-8755-4E63-B288-8E139758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3D9ED1-962C-45B7-B509-D67DC310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23CC6D-4423-4B8E-A770-718755A1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E97BB0-0377-432C-96D1-E221CABD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E17D05-81C3-4409-B3D7-171628E8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C2BED9-A2CB-4AC7-B969-D2455997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774E6D-5ECD-419B-A95F-9E5A63C3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AF8115-5F13-4ACE-8FA3-BCD9D563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128A63-4B96-4CCC-9C1C-CDF9C513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5094D4-4A26-4BD6-9438-32768392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22B163-CFC8-496E-A223-436B4B81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DDF8-074A-4912-94C1-6A74932D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A825C8-B753-4695-AC92-1073DED9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968D6A-7541-4274-8E87-F0F93DE8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171B80-1F46-48C8-9BC4-57E90816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F19DA2-EA0F-4567-A6E2-9763521F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4FE5DE-09BE-494B-9D43-E0341B6A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59E433-66A8-411A-8110-05F3A53B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A186BE-CC6F-42CA-9782-C2C87EB7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093861-47B9-4121-89E5-4BA330F2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887208-27D3-4162-95FA-497CD489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9A2106-DA2C-4C85-8624-89DFF475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D92E3-8CBB-473D-838A-C04BBE38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76870C-E38E-4C7D-8E0C-75FBCE01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3A8B21-0619-4176-AFB4-9AA6FD6C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95A398-EA37-4E19-9883-33F36FB6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480E00-002C-4B54-8CEE-B6410337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EA529B-EB9D-40EC-BC30-E27A546F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2459D6-283E-4D25-B017-AC8AF1F9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E09FB6-4861-431C-90BA-A73D4246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2054-CCC9-41FA-8B19-939B3557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6B2B2-3B14-4BE0-8952-BBD6F158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80A-EFCA-46C2-9D47-A0186F88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B637D-2979-41E6-912D-CF600D09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882EF-3F1B-48DB-B0FC-34DF5F8F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DE138-0662-4406-AC10-6BC6887B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F48EE-BD40-4215-8977-5E372832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E11D-812C-4DAC-861A-7451BDFD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3F5D7-9320-43B2-A464-93AE457C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BC2CB-A2F7-407B-91E2-163F4E0E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9A595-39A1-4D37-A553-EBEEAD7E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01D2B-B798-4446-ACF5-EA67FFEC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3FF64-2C14-4837-AFCF-4E0FC474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26F-D5B7-4CAE-B4B2-573B93D2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BBD53-5C33-427D-B33C-FBF92A36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58DA7-3017-4605-A594-4638A4A2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110F-343C-4951-A058-DC5D8F08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243A9-E8F5-4A2D-96CC-9120733D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89BF0-9C2E-40C6-B15B-3D0EE082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19084-96EC-4F58-BBE8-DE05EC17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15DD4-2A8E-4A7C-A62C-03DA98D3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85065-2F20-46B7-BBD4-5C2D20F5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100F6-578F-40AD-9516-B7522C88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74960-6FDA-4AEE-9917-FF5E794B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A9A-5DDF-4CFF-9840-068B675A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62064-44BA-4A8A-99D1-37778EFB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8BC36-81C6-4D81-843A-3DBEF44F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A3EE4-9551-4298-825F-368D801D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8F44B-9BB8-4DBA-BEA2-69A7E72D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E7B9A-65C0-4D24-ADC1-648422D9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68FA8-9B25-41CA-B22A-DE705E48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603E3-85E3-453B-9323-55EDD6E4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C7ABE-55C2-41FE-9946-448314F6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D130C-D87B-470A-8EF9-8C26252A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4E9FD-61F1-4D61-8229-1CD9155A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2DE-3043-4201-A79A-D4DEC3CF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DCFE7-104C-4F38-A136-4167EFFA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2C193-7DC2-4C92-AC40-93DB6A28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1D2D8-2E5E-4483-8ECA-22FFCD4C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8DFC4-A076-4E6E-A8ED-51147D6C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7199C-38EE-4076-B687-56C00D04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C00C9-1E9A-458D-81DA-2F257AAE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5CFC7-31D5-478B-A8B1-B522B2F0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0A454-AC76-4A11-9D36-4F42FFEA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D716D-2ED1-4621-8E52-B9EEEA28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39AB1-8847-41E9-B4C5-3B909D4E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EFE-2F35-4D2D-8D2F-24EB1922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7720E-628A-40C3-8D5D-DB9699C2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AE058-6495-4B77-88A3-48BFC04F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7A308-18FA-40C6-849A-7E8D5183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D2189-5ECA-4DFE-9F6D-54CF7714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8CF5E-877F-472C-A288-8DF105A5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E7F9D-1602-4C34-98F0-030628E5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4E8B1-8095-4774-9FA7-8A5C908C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5FED1-2C08-47EA-9844-411C07EC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D7C92-3F93-45FD-8979-ECE1B36F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6C960-616A-47ED-AECB-C1308881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186-F493-4A6A-A54E-2333BB2A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AF074-074B-4A28-8C29-4BCD703F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AB292-5583-4F24-8AE5-10500F5D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5B3F6-98AF-4741-BB4D-87289AB1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D38A1-090C-477D-998B-8E7C8AFF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CFEF9-EFC8-4D32-A96F-85360BB4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83624-4C0A-40AC-A853-F152FFB5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ADC77-CE71-4F81-86C9-9DEE5334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85B19-B67A-4A24-B273-255C69FC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36532-5B1A-406B-945E-9E78E6D0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1E0F9-CCC9-440F-8D93-D19F1F4A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C75-7B99-4D2B-BAE9-BCB28C23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A0126-251E-44A0-9ADE-D310EC79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14199-EAF7-48EB-881C-BDA57D4F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ED70C-0883-4CC9-B16F-0066C42C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93C42-E80E-45D5-8469-B82137CB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F6F68-E228-4EBB-BA37-97CDFFFB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16A05-23AF-4A75-AF23-C0AC39B2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89432-6403-4E49-B9D2-37F18678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E2F90-7F1C-46E0-80CC-C799C43B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45600-CD51-40C7-A281-5E9BD286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98EEA-6527-40E1-8E58-D28F6BFC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D538-F2BD-4FA4-9D8F-102141534B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27EE-2DE6-483D-B592-BA4C8835A6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37DC-5044-4EA1-98E3-7A4258478C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BAF9-FF9A-409C-B999-421CB7456D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67A1-E1F0-4A70-86C0-94D302D40E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0341-E235-468A-A831-AB6F590C26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40BD-10C4-4EBF-9429-B91998EA45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BDA2-3CDC-4B7C-B4F7-C77F9F40D3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68B0-40FB-4F15-8689-D4F23A2AF9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5CE4-B7DF-4BB9-ABA1-33322B5B1F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3849-2124-418E-9AC3-89DDD6D8C9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15EC-4B41-43B1-BF98-6D53C5DAF8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47F4-EABD-4048-873A-411A6A9577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FAB6-A8CF-46BA-A02F-52F60AA491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9407-D64A-4CE0-987E-0474023D75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6D06-F854-47C8-8EC1-0E75392C66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9B78-1AB8-4BCE-A81F-193A8DAC57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4F04-C3BE-4542-AE5D-96AF32558D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5BB7-57DE-4F12-ABE3-1409BBBBF6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CB4E-A2BE-48B6-B237-FD61CC4361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021E-CAF8-456F-A630-D8212130AA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1C7F-08C5-4102-AF08-69BA27F461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DF8B-6251-4E31-82A3-0A04D38BBD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83B1-82BD-44F0-A5AD-FFC5534241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A964-6656-438C-98C4-2C51E436B5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9838-A50B-46E9-80AB-8AAEBD4B64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211F-D5E3-4686-AA37-F27C52A376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2305-8E31-46C6-B6FA-FA192AA4BA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3299-7C23-4A20-AE9D-8886526CC2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E348-FD01-4060-8A4E-0FBED89888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AD89-031B-42E0-A856-91AF48A99C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5729-E624-4C5B-9FCF-27867895AB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E223-1386-479A-8E62-B7BE274DF4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A5FF-2DD6-494C-BCEE-7993145901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18CD-5AFA-462C-93B3-7BE9A8CDE9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C083-BA8D-4353-AD34-557C47AB2D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E05D-3BB6-4F52-B378-E5929B2457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DC6E-5717-4CF8-8921-46D84B4D29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D674-9DDD-4D59-9FAD-FCB0E47396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8E08-80DC-4F2B-91E8-3FF17B77CE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FC56-A933-4A89-BAEB-AD5D00BFF1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5A9F-AAAF-4C70-BF7A-8F235A02AF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54160" y="2987640"/>
            <a:ext cx="863568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250920" y="1179360"/>
            <a:ext cx="8753400" cy="171612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2" descr=""/>
          <p:cNvPicPr/>
          <p:nvPr/>
        </p:nvPicPr>
        <p:blipFill>
          <a:blip r:embed="rId2"/>
          <a:stretch/>
        </p:blipFill>
        <p:spPr>
          <a:xfrm>
            <a:off x="1536840" y="3483000"/>
            <a:ext cx="6314760" cy="22194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3059280" y="154152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3276720" y="1989000"/>
            <a:ext cx="64908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5651640" y="155736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6"/>
          <a:stretch/>
        </p:blipFill>
        <p:spPr>
          <a:xfrm>
            <a:off x="5940360" y="198900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7"/>
          <a:stretch/>
        </p:blipFill>
        <p:spPr>
          <a:xfrm>
            <a:off x="8345520" y="155736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8"/>
          <a:stretch/>
        </p:blipFill>
        <p:spPr>
          <a:xfrm>
            <a:off x="8072280" y="200340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9"/>
          <a:stretch/>
        </p:blipFill>
        <p:spPr>
          <a:xfrm>
            <a:off x="3564000" y="400536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10"/>
          <a:stretch/>
        </p:blipFill>
        <p:spPr>
          <a:xfrm>
            <a:off x="3419640" y="465300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11"/>
          <a:stretch/>
        </p:blipFill>
        <p:spPr>
          <a:xfrm>
            <a:off x="6372360" y="4076640"/>
            <a:ext cx="649080" cy="447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12"/>
          <a:stretch/>
        </p:blipFill>
        <p:spPr>
          <a:xfrm>
            <a:off x="6070680" y="4653000"/>
            <a:ext cx="64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57120" y="800280"/>
            <a:ext cx="8429760" cy="58575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492360" y="4738680"/>
            <a:ext cx="17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3924360" y="561816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3924360" y="6049800"/>
            <a:ext cx="172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561960" y="2343240"/>
            <a:ext cx="8020080" cy="21715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3276720" y="292428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1476360" y="3400560"/>
            <a:ext cx="360036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4"/>
          <a:stretch/>
        </p:blipFill>
        <p:spPr>
          <a:xfrm>
            <a:off x="2556000" y="3919680"/>
            <a:ext cx="180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247680" y="851040"/>
            <a:ext cx="8648640" cy="56862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81492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5076720" y="2349360"/>
            <a:ext cx="381492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381492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5076720" y="4508640"/>
            <a:ext cx="381492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6"/>
          <a:stretch/>
        </p:blipFill>
        <p:spPr>
          <a:xfrm>
            <a:off x="5076720" y="5157720"/>
            <a:ext cx="38149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7"/>
          <a:stretch/>
        </p:blipFill>
        <p:spPr>
          <a:xfrm>
            <a:off x="5076720" y="5805360"/>
            <a:ext cx="3814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62080" y="938160"/>
            <a:ext cx="8619840" cy="55818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6516720" y="2722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6516720" y="337176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6012000" y="4005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9222" descr=""/>
          <p:cNvPicPr/>
          <p:nvPr/>
        </p:nvPicPr>
        <p:blipFill>
          <a:blip r:embed="rId5"/>
          <a:stretch/>
        </p:blipFill>
        <p:spPr>
          <a:xfrm>
            <a:off x="971640" y="2463840"/>
            <a:ext cx="3771720" cy="22194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6"/>
          <a:stretch/>
        </p:blipFill>
        <p:spPr>
          <a:xfrm>
            <a:off x="1042920" y="484020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7"/>
          <a:stretch/>
        </p:blipFill>
        <p:spPr>
          <a:xfrm>
            <a:off x="971640" y="544500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8"/>
          <a:stretch/>
        </p:blipFill>
        <p:spPr>
          <a:xfrm>
            <a:off x="900000" y="6093000"/>
            <a:ext cx="374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185760" y="905040"/>
            <a:ext cx="8772480" cy="50479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826920" y="2909880"/>
            <a:ext cx="460872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460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460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826920" y="4653000"/>
            <a:ext cx="46087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190440" y="1414440"/>
            <a:ext cx="8763120" cy="4029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71640" y="2851200"/>
            <a:ext cx="48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00000" y="3443400"/>
            <a:ext cx="48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900000" y="406224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900000" y="4638600"/>
            <a:ext cx="626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00080" y="781200"/>
            <a:ext cx="8943840" cy="52956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511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511164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826920" y="4797360"/>
            <a:ext cx="511200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826920" y="5416560"/>
            <a:ext cx="511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57240" y="800280"/>
            <a:ext cx="9029520" cy="5819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755640" y="3486240"/>
            <a:ext cx="417672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684360" y="458136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684360" y="515772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684360" y="5805360"/>
            <a:ext cx="532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6:1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